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1BE-40AC-4817-B836-6CF36046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A71-8D7F-4DA9-8E8D-4C21678E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2A-8ECD-48B0-AEA4-F84C0E7E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95A-028F-4813-AC8F-C34E686A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675-FE5D-4FC0-B473-A4E3125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1E1-3DA3-404F-A7D8-F1F1280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C3F-9B2F-4407-86A6-5FB80C49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205-449F-4421-BBD2-4AE9917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F90-5C9D-43D4-B4B3-4BDCDCA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CF5-090C-48DE-B0BD-64E66E2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BD1-4198-4AA4-A653-19946A54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F9A-427E-4042-AE8B-5B49940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CEFD-61AD-4FB0-96EC-59149998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4266720"/>
            <a:ext cx="51818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2" name="" descr="Картинка 155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2514600"/>
            <a:ext cx="868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родительской любви"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343400"/>
            <a:ext cx="52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Arial"/>
              </a:rPr>
              <a:t>Поверь мне, счастье только там, где любят нас, где верят нам!</a:t>
            </a:r>
            <a:br>
              <a:rPr sz="2400"/>
            </a:br>
            <a:r>
              <a:rPr b="1" i="1" lang="en-US" sz="2400" spc="-1" strike="noStrike">
                <a:solidFill>
                  <a:srgbClr val="66ffff"/>
                </a:solidFill>
                <a:latin typeface="Arial"/>
              </a:rPr>
              <a:t>                            М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943600"/>
            <a:ext cx="7924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Выполнила: Малышева Ю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Tahoma"/>
              </a:rPr>
              <a:t>Нет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66652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Если есть ребенок, надо   и время для него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04662-003"/>
          <p:cNvPicPr/>
          <p:nvPr/>
        </p:nvPicPr>
        <p:blipFill>
          <a:blip r:embed="rId1"/>
          <a:stretch/>
        </p:blipFill>
        <p:spPr>
          <a:xfrm>
            <a:off x="5334120" y="2209680"/>
            <a:ext cx="2438280" cy="36846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457200" y="23320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Tahoma"/>
              </a:rPr>
              <a:t>Слишком мало ла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Приветствуйте своих детей нежным объятием, поцелуем или уверенным пожатием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0_3ca60_9fec3ec1_XL" descr="Картинка 40 из 127472"/>
          <p:cNvPicPr/>
          <p:nvPr/>
        </p:nvPicPr>
        <p:blipFill>
          <a:blip r:embed="rId1"/>
          <a:stretch/>
        </p:blipFill>
        <p:spPr>
          <a:xfrm>
            <a:off x="5257800" y="2209680"/>
            <a:ext cx="2743200" cy="3230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33526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53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4191120"/>
            <a:ext cx="8229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ОЯВЛЕНИЯ ЛЮБВИ</a:t>
            </a:r>
            <a:endParaRPr b="1" lang="en-US" sz="4800" spc="1" strike="noStrike">
              <a:ln w="3492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Формы проявлений люб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Контакт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Физический конт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Пристальное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Папки\ИРИНА\р4.jpg"/>
          <p:cNvPicPr/>
          <p:nvPr/>
        </p:nvPicPr>
        <p:blipFill>
          <a:blip r:embed="rId1"/>
          <a:stretch/>
        </p:blipFill>
        <p:spPr>
          <a:xfrm>
            <a:off x="1066680" y="4343400"/>
            <a:ext cx="1600200" cy="14986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95" name="happy%20family" descr="Картинка 146 из 127471"/>
          <p:cNvPicPr/>
          <p:nvPr/>
        </p:nvPicPr>
        <p:blipFill>
          <a:blip r:embed="rId2"/>
          <a:stretch/>
        </p:blipFill>
        <p:spPr>
          <a:xfrm>
            <a:off x="3352680" y="3886200"/>
            <a:ext cx="2514600" cy="1639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6" name="" descr="Картинка 88 из 127471"/>
          <p:cNvPicPr/>
          <p:nvPr/>
        </p:nvPicPr>
        <p:blipFill>
          <a:blip r:embed="rId3"/>
          <a:stretch/>
        </p:blipFill>
        <p:spPr>
          <a:xfrm>
            <a:off x="6705720" y="2286000"/>
            <a:ext cx="2004840" cy="2971800"/>
          </a:xfrm>
          <a:prstGeom prst="rect">
            <a:avLst/>
          </a:prstGeom>
          <a:ln w="22320">
            <a:solidFill>
              <a:srgbClr val="000080"/>
            </a:solidFill>
            <a:miter/>
          </a:ln>
        </p:spPr>
      </p:pic>
    </p:spTree>
  </p:cSld>
  <p:transition spd="med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онтакт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Любовь начинается с глаз. Глазами влюбляютс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онтакт глаз – это возможность проявить теплые чувства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120" y="1600200"/>
            <a:ext cx="350532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21 из 5081"/>
          <p:cNvPicPr/>
          <p:nvPr/>
        </p:nvPicPr>
        <p:blipFill>
          <a:blip r:embed="rId2"/>
          <a:stretch/>
        </p:blipFill>
        <p:spPr>
          <a:xfrm>
            <a:off x="5334120" y="1828800"/>
            <a:ext cx="3276360" cy="335268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й конта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Не бойтесь, что заласканному ребенку будет в жизни трудно. Теплые, ласковые прикосновения смягчают душу ребенка и снимают напряж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happy%20family" descr="Картинка 146 из 127471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5909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76360" y="26028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Times New Roman"/>
              </a:rPr>
              <a:t>Метод объят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1600200"/>
            <a:ext cx="7020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Ежедневно рекомендуется:</a:t>
            </a:r>
            <a:endParaRPr b="1" i="1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1280" y="2637000"/>
            <a:ext cx="617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5 объятий для выживания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32000" y="3573360"/>
            <a:ext cx="6867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0 объятий для поддерж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81080" y="4581360"/>
            <a:ext cx="7162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5 объятий для развития ребёнка</a:t>
            </a:r>
            <a:endParaRPr b="1" i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09" name="dependents2" descr="Картинка 73 из 127471"/>
          <p:cNvPicPr/>
          <p:nvPr/>
        </p:nvPicPr>
        <p:blipFill>
          <a:blip r:embed="rId1"/>
          <a:stretch/>
        </p:blipFill>
        <p:spPr>
          <a:xfrm>
            <a:off x="152280" y="49528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«Любое прикосновение присоединяет тело и душу. Чувства обостряются, душа оживает. Мы начинаем светиться внутренним излучением. И становимся красивы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емецкий 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стера Хольтманншпет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212" descr="Картинка 58 из 127472"/>
          <p:cNvPicPr/>
          <p:nvPr/>
        </p:nvPicPr>
        <p:blipFill>
          <a:blip r:embed="rId1"/>
          <a:stretch/>
        </p:blipFill>
        <p:spPr>
          <a:xfrm>
            <a:off x="685800" y="38862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еликие любят не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льберт Эйнштейн, когда испытывал трудности в научной работе шёл к жене: «Я просил обнять меня. Тепло и внимание женщины давало мне новый толчок энерг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икассо, если в голову не приходила новая идея, любил, чтобы ему массировали сп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имеон отправлялся к маникюрше, когда рука не тянулась к п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Пристальное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истальное внимание предполагает возможность сосредоточиться на ребенке, так, чтобы он чувствовал себя особенным, единственным в своем 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ms3" descr="Картинка 526 из 128111"/>
          <p:cNvPicPr/>
          <p:nvPr/>
        </p:nvPicPr>
        <p:blipFill>
          <a:blip r:embed="rId1"/>
          <a:stretch/>
        </p:blipFill>
        <p:spPr>
          <a:xfrm>
            <a:off x="4952880" y="2590920"/>
            <a:ext cx="3581640" cy="30477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97272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3933360"/>
            <a:ext cx="569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04920" y="260280"/>
            <a:ext cx="887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Чув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бро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част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заимопониман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важ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26800">
            <a:off x="1599840" y="2133720"/>
            <a:ext cx="5391000" cy="30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1" i="1" lang="en-US" sz="96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7480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9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5280"/>
            <a:ext cx="457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-380880"/>
            <a:ext cx="6629400" cy="541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05120" y="4343400"/>
            <a:ext cx="513396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любви всё - ничто!</a:t>
            </a:r>
            <a:endParaRPr b="1" lang="en-US" sz="1800" spc="1" strike="noStrike">
              <a:ln w="2844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Каждое утро взываю к тому лучшему, что есть во мне: "Мне послан ребенок; это дорогой мой гость; я благодарен ему за то, что он есть. Он также призван к жизни, как и я, это нас объединяет - мы есть, мы живые люди. Он такой же как и я, он человек, и не будущий человек, а сегодняшний, и потому он другой, как и все люди; я его принимаю, как всякого другого человека. Я принимаю ребенка: Я принимаю его, я охраняю его детство, я понимаю, терплю, принимаю, прощаю. Я не применяю силу к нему, не угнетаю его своей силой, потому, что я его люблю. Я люблю его, и я благодарен ему за то, что он есть, и за то, что я могу его любить, и тем самым я возвышаюсь в духе сво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25909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4400" spc="1" strike="noStrike">
              <a:ln w="255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893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99"/>
                </a:solidFill>
                <a:latin typeface="Arial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6002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48 из 90098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1523880"/>
            <a:ext cx="86868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сякая любовь истинна и прекрасна по – свое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ишь бы она была в сердце, а не в голов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. 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овь- это единственный разумный и удовлетворительный ответ на вопрос  о смысле человеческого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Э. Фро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ить умеет не только тот, кто любит кричать о  своей любви: у многих чувство выражается и словом  и делом, у иного только делом, и. может быть, тем сильнее, чем молчалив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457200"/>
            <a:ext cx="51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ff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ЕЛИКИЕ О ЛЮБВИ:</a:t>
            </a:r>
            <a:endParaRPr b="1" i="1" lang="en-US" sz="4400" spc="1" strike="noStrike">
              <a:ln w="25560">
                <a:solidFill>
                  <a:srgbClr val="800000"/>
                </a:solidFill>
                <a:miter/>
              </a:ln>
              <a:solidFill>
                <a:srgbClr val="ccff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Тест: «Какой вы родитель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380880"/>
            <a:ext cx="84582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909720"/>
            <a:ext cx="7391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что за друзья у теб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колько раз тебе повторя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оветуй мне, пожалуй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знаю, чтобы я без тебя дел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в кого ты такой уродился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ие у тебя замечательные друзь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на кого ты похож(а)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 в твое врем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 мне опора и помощник (иц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 чём ты только думаешь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(ая) ты у меня ум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как ты считаешь, сынок (дочень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 всех дети как дети, а т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ты у меня сообразительный!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ите результаты, поставив себе 2 балла за ответы № 1, 2, 5, 7, 8, 10, 13 и 1 балл за все осталь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7-8 баллов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Живёте душа в душу. Ребёнок любит и уважает 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9-10 баллов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Вы непоследовательны в общении. Ребёнок вас уважает, но не всегда открове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1-12 баллов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Необходимо быть к ребёнку внимательнее. Авторитет не заменяет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3-14 баллов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Идёте по неверному пути. Существует недоверие между вами и ребёнком. Уделяйте ему больш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4087" t="0" r="15326" b="0"/>
          <a:stretch/>
        </p:blipFill>
        <p:spPr>
          <a:xfrm>
            <a:off x="0" y="0"/>
            <a:ext cx="95457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762120"/>
            <a:ext cx="7010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5 ошибок в воспитании:</a:t>
            </a:r>
            <a:endParaRPr b="0" lang="en-US" sz="4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Обещание больше не люби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Дет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чувствуют фаль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Единожды обману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вы надолго потеряете довер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0 из 578"/>
          <p:cNvPicPr/>
          <p:nvPr/>
        </p:nvPicPr>
        <p:blipFill>
          <a:blip r:embed="rId2"/>
          <a:stretch/>
        </p:blipFill>
        <p:spPr>
          <a:xfrm>
            <a:off x="4876920" y="1981080"/>
            <a:ext cx="3733560" cy="38102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Tahoma"/>
              </a:rPr>
              <a:t>Безразличие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Не показывайте ребенку, что вам все равно, чем он занимается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а 60 из 365"/>
          <p:cNvPicPr/>
          <p:nvPr/>
        </p:nvPicPr>
        <p:blipFill>
          <a:blip r:embed="rId2"/>
          <a:stretch/>
        </p:blipFill>
        <p:spPr>
          <a:xfrm>
            <a:off x="4952880" y="1752480"/>
            <a:ext cx="3200400" cy="3962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Tahoma"/>
              </a:rPr>
              <a:t>Навязанная 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228600" y="19047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Дети готовы погрузиться в мир сложных взрослых проблем, вместо того чтобы обсуждать свои интересы со сверст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32 из 578"/>
          <p:cNvPicPr/>
          <p:nvPr/>
        </p:nvPicPr>
        <p:blipFill>
          <a:blip r:embed="rId2"/>
          <a:stretch/>
        </p:blipFill>
        <p:spPr>
          <a:xfrm>
            <a:off x="4800600" y="2209680"/>
            <a:ext cx="3581280" cy="3657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24-01-13T16:45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